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0.wmf" ContentType="image/x-wmf"/>
  <Override PartName="/ppt/media/image25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3.jpeg" ContentType="image/jpeg"/>
  <Override PartName="/ppt/media/image23.jpeg" ContentType="image/jpeg"/>
  <Override PartName="/ppt/media/image2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E0F-66D9-4C58-8EDF-E9803D2F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2D9-4A6A-45ED-8A76-5EC11446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FFC-6356-4454-894B-DDCF93F4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E7C-618A-4CF1-BA26-B70C28ED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D53-9AFB-41F9-AEDB-6187351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369-24A2-499B-BC8B-67B3E946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C898-2091-4EC6-82E0-E8776A6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AAD-4025-47B9-85F6-4FF78947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0AF6-DF27-4727-B434-72C61893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665280"/>
            <a:ext cx="8209080" cy="39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1E8-47E1-498B-BB01-055C210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F62-42A1-4C89-ABEB-8A334E9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921-D305-4AA2-86A6-0035664D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E36-A798-43F8-8689-F6937A3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7531-DCD7-4591-8E78-CE55D6A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EF3-295D-4243-BEE5-DB539B0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FB6-F560-4C51-8E2E-02FBE5E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F11-8372-4149-AD04-E964F79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B1C-2BB7-4637-923E-36044F9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665280"/>
            <a:ext cx="8209080" cy="39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E88-E772-44DB-95D4-B8742EF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000" y="665280"/>
            <a:ext cx="8209080" cy="39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080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33240" y="152712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080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33240" y="4178160"/>
            <a:ext cx="264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EEA-70A1-424D-8951-0607371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665280"/>
            <a:ext cx="8209080" cy="39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969-516E-4883-A372-15450D8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34F-0FE0-4108-953E-E5DCCC7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17816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26A-BD7F-4DE9-B683-ED9DAD7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27120"/>
            <a:ext cx="4015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7816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8B8-772D-45CE-BD26-20D9404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1" marL="343080" indent="-343080">
              <a:spcBef>
                <a:spcPts val="700"/>
              </a:spcBef>
              <a:buClr>
                <a:srgbClr val="771e28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2" marL="343080" indent="-343080">
              <a:spcBef>
                <a:spcPts val="700"/>
              </a:spcBef>
              <a:buClr>
                <a:srgbClr val="771e28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3" marL="343080" indent="-343080">
              <a:spcBef>
                <a:spcPts val="700"/>
              </a:spcBef>
              <a:buClr>
                <a:srgbClr val="771e28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4" marL="343080" indent="-343080">
              <a:spcBef>
                <a:spcPts val="700"/>
              </a:spcBef>
              <a:buClr>
                <a:srgbClr val="771e28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fe8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9DE-59CC-408C-9459-F9BDC7DFC6BA}" type="datetime">
              <a:rPr b="1" lang="en-US" sz="1200" spc="-1" strike="noStrike">
                <a:solidFill>
                  <a:srgbClr val="cfe8c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1EBB-8C04-41FC-A993-C9550F72F897}" type="slidenum">
              <a:rPr b="1" lang="zh-CN" sz="1200" spc="-1" strike="noStrike">
                <a:solidFill>
                  <a:srgbClr val="cfe8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fe8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5F2-034B-4E58-A76F-2F4EC1A084B0}" type="datetime">
              <a:rPr b="1" lang="en-US" sz="1200" spc="-1" strike="noStrike">
                <a:solidFill>
                  <a:srgbClr val="cfe8cc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388-74E9-4CFA-A969-C176062E8C99}" type="slidenum">
              <a:rPr b="1" lang="zh-CN" sz="1200" spc="-1" strike="noStrike">
                <a:solidFill>
                  <a:srgbClr val="cfe8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25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1e2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E:\图片夹\国外网美图\玻璃水珠\20091026_3d1b4748c4ad09431dc9jc37SRLqpQ03.jpg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82600" y="520560"/>
            <a:ext cx="8610480" cy="6337440"/>
            <a:chOff x="282600" y="520560"/>
            <a:chExt cx="8610480" cy="6337440"/>
          </a:xfrm>
        </p:grpSpPr>
        <p:sp>
          <p:nvSpPr>
            <p:cNvPr id="83" name="矩形 5"/>
            <p:cNvSpPr/>
            <p:nvPr/>
          </p:nvSpPr>
          <p:spPr>
            <a:xfrm>
              <a:off x="395280" y="836640"/>
              <a:ext cx="8353440" cy="57891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6" descr="F:\work\第二\大桥\未标题-5副本.png"/>
            <p:cNvPicPr/>
            <p:nvPr/>
          </p:nvPicPr>
          <p:blipFill>
            <a:blip r:embed="rId3"/>
            <a:stretch/>
          </p:blipFill>
          <p:spPr>
            <a:xfrm>
              <a:off x="282600" y="520560"/>
              <a:ext cx="8610480" cy="633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E:\图片夹\国外网美图\玻璃水珠\20091026_3d1b4748c4ad09431dc9jc37SRLqpQ03.jpg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282600" y="520560"/>
            <a:ext cx="8610480" cy="6337440"/>
            <a:chOff x="282600" y="520560"/>
            <a:chExt cx="8610480" cy="6337440"/>
          </a:xfrm>
        </p:grpSpPr>
        <p:sp>
          <p:nvSpPr>
            <p:cNvPr id="125" name="矩形 5"/>
            <p:cNvSpPr/>
            <p:nvPr/>
          </p:nvSpPr>
          <p:spPr>
            <a:xfrm>
              <a:off x="395280" y="836640"/>
              <a:ext cx="8353440" cy="57891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" descr="F:\work\第二\大桥\未标题-5副本.png"/>
            <p:cNvPicPr/>
            <p:nvPr/>
          </p:nvPicPr>
          <p:blipFill>
            <a:blip r:embed="rId3"/>
            <a:stretch/>
          </p:blipFill>
          <p:spPr>
            <a:xfrm>
              <a:off x="282600" y="520560"/>
              <a:ext cx="8610480" cy="633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68360" y="15271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68000" y="665280"/>
            <a:ext cx="82090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g.topit.me/o/201003/05/12677725997150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ext Placeholder 2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3959280" cy="489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95640" y="55911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鲁 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3357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2421000"/>
            <a:ext cx="288720" cy="273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22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差不多、差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9242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364500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出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22100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869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大病差后 、久病出差（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2924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7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227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4222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3429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51640" y="270828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58920" y="907920"/>
            <a:ext cx="158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多音字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堵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342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边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39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活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80000" y="2708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3933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32860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8752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ext Placeholder 2" descr=""/>
          <p:cNvPicPr/>
          <p:nvPr/>
        </p:nvPicPr>
        <p:blipFill>
          <a:blip r:embed="rId2"/>
          <a:stretch/>
        </p:blipFill>
        <p:spPr>
          <a:xfrm>
            <a:off x="2419200" y="2585880"/>
            <a:ext cx="114480" cy="214560"/>
          </a:xfrm>
          <a:prstGeom prst="rect">
            <a:avLst/>
          </a:prstGeom>
          <a:ln w="0">
            <a:noFill/>
          </a:ln>
        </p:spPr>
      </p:pic>
      <p:pic>
        <p:nvPicPr>
          <p:cNvPr id="241" name="Text Placeholder 2" descr=""/>
          <p:cNvPicPr/>
          <p:nvPr/>
        </p:nvPicPr>
        <p:blipFill>
          <a:blip r:embed="rId3"/>
          <a:stretch/>
        </p:blipFill>
        <p:spPr>
          <a:xfrm>
            <a:off x="6610320" y="2585880"/>
            <a:ext cx="114480" cy="214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6013440" y="3573360"/>
            <a:ext cx="3533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zhu</a:t>
            </a:r>
            <a:r>
              <a:rPr b="1" lang="en-US" sz="3200" spc="-1" strike="noStrike">
                <a:solidFill>
                  <a:srgbClr val="771e28"/>
                </a:solidFill>
                <a:latin typeface="Cambria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转动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771e28"/>
              </a:solidFill>
              <a:latin typeface="Cambria"/>
            </a:endParaRPr>
          </a:p>
        </p:txBody>
      </p:sp>
      <p:sp>
        <p:nvSpPr>
          <p:cNvPr id="243" name=""/>
          <p:cNvSpPr/>
          <p:nvPr/>
        </p:nvSpPr>
        <p:spPr>
          <a:xfrm>
            <a:off x="1763640" y="227664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44720" y="2852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06640" y="1989000"/>
            <a:ext cx="33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  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2720" y="3645000"/>
            <a:ext cx="37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  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校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88080" y="2911320"/>
            <a:ext cx="6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2276640"/>
            <a:ext cx="144360" cy="1635120"/>
          </a:xfrm>
          <a:custGeom>
            <a:avLst/>
            <a:gdLst>
              <a:gd name="textAreaLeft" fmla="*/ 92160 w 144360"/>
              <a:gd name="textAreaRight" fmla="*/ 144360 w 144360"/>
              <a:gd name="textAreaTop" fmla="*/ 42480 h 1635120"/>
              <a:gd name="textAreaBottom" fmla="*/ 159264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92720" y="198900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4000" y="162864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f2936"/>
                </a:solidFill>
                <a:latin typeface="Times New Roman"/>
                <a:ea typeface="楷体_GB2312"/>
              </a:rPr>
              <a:t>请同学们快速浏览课文，</a:t>
            </a:r>
            <a:r>
              <a:rPr b="1" lang="zh-CN" sz="3600" spc="-1" strike="noStrike">
                <a:solidFill>
                  <a:srgbClr val="9f2936"/>
                </a:solidFill>
                <a:latin typeface="Times New Roman"/>
                <a:ea typeface="华文行楷"/>
              </a:rPr>
              <a:t>完成以下三个任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明各个小节序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回忆了鲁迅先生的哪几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643280" y="5950080"/>
            <a:ext cx="208944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201744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1e28"/>
                </a:solidFill>
                <a:latin typeface="Calibri"/>
                <a:ea typeface="华文行楷"/>
              </a:rPr>
              <a:t>研读课文 重点赏析</a:t>
            </a:r>
            <a:endParaRPr b="0" lang="en-US" sz="40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2421000"/>
            <a:ext cx="792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你认为哪一个生活场景给你留下最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刻的印象？最能看出他的什么性格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9640" y="6206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本文前三段反映了鲁迅是怎么样的一个人？从哪些地方体现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06208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段：开门见山的写了鲁迅先生的笑。这真诚、明朗的笑确实是鲁迅先生独一无二的，反映了他性格率直开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3080" y="3645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段：写鲁迅先生的走路特点是轻捷快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50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鲁迅先生不注意人的衣着，是说明鲁迅先生不以外表看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00" y="12384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f2936"/>
                </a:solidFill>
                <a:latin typeface="Times New Roman"/>
                <a:ea typeface="华文行楷"/>
              </a:rPr>
              <a:t>笑声明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1413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乐观爽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平易近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坦白真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鲁迅形象便跃然纸上，跟一些人心目中“多疑善怒”、“冷酷无情”的鲁迅形成了鲜明对照。 这里，他不再是神情严峻横眉冷对千夫指的斗士，而是一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慈爱的长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个普通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可亲可爱的老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从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拉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读者与伟人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距离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342900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人感受到鲁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率真、质朴、毫不做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性格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765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笑开头有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中有多处提到了鲁迅的笑声，请找一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鲁迅说 “好久不见，好久不见”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才自己笑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276640"/>
            <a:ext cx="9144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校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海上述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间隙，鲁迅见萧红进来，对着几乎天天见面的她，居然说 出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好久不见，好久不见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样随便，这样孩子化的语言，透着风趣，透着玩笑；表现了他的幽默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4365720"/>
            <a:ext cx="69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71e28"/>
                </a:solidFill>
                <a:latin typeface="Cambria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Cambria"/>
              </a:rPr>
              <a:t>我说：“天晴啦，太阳出来啦”。鲁迅先生和他的夫人都笑了，一种对于冲破忧郁心境的崭然会意的笑。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“</a:t>
            </a: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忧郁心境”是作者隐晦地告诉我们，当时的社会是黑暗的让人压抑。</a:t>
            </a:r>
            <a:endParaRPr b="0" lang="en-US" sz="24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“</a:t>
            </a: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天晴啦，太阳出来啦“是一语双关，暗含对光明的社会向往。</a:t>
            </a:r>
            <a:endParaRPr b="0" lang="en-US" sz="24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71e28"/>
                </a:solidFill>
                <a:latin typeface="Cambria"/>
              </a:rPr>
              <a:t>鲁迅先生和许广平先生的崭然的会意的笑，说明他们懂得作者这句话的意思，他们也有同感。</a:t>
            </a:r>
            <a:endParaRPr b="0" lang="en-US" sz="2400" spc="-1" strike="noStrike">
              <a:solidFill>
                <a:srgbClr val="771e2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76720" y="609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f2936"/>
                </a:solidFill>
                <a:latin typeface="Times New Roman"/>
                <a:ea typeface="华文行楷"/>
              </a:rPr>
              <a:t>走路轻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8000" y="1773360"/>
            <a:ext cx="98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刚抓起帽子来往头上一扣，同时左腿就伸出去了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781360"/>
            <a:ext cx="799128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些动作表现出鲁迅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精干敏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性格特征，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往无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义无返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大无畏精神。淡淡几笔，就画龙点睛般地勾画出一个</a:t>
            </a:r>
            <a:r>
              <a:rPr b="1" lang="zh-CN" sz="4400" spc="-1" strike="noStrike">
                <a:solidFill>
                  <a:srgbClr val="f07f09"/>
                </a:solidFill>
                <a:latin typeface="Times New Roman"/>
              </a:rPr>
              <a:t>独一无二、鲜灵生动的“活的鲁迅”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4000" y="1125360"/>
            <a:ext cx="251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的笑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是从心里的欢喜，若有人说了什么可笑的话，鲁迅先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笑得连烟卷都拿不住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是笑得咳嗽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1052640"/>
            <a:ext cx="36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走路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轻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……他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抓起帽子拉往头上一扣，同时左腿就伸出去了，仿佛不顾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走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333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灵动传神的细节，质朴浅白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6093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爽朗乐观、率真可亲、平易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4720" y="1413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04200" y="1884240"/>
            <a:ext cx="124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75060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675a"/>
                </a:solidFill>
                <a:latin typeface="Calibri"/>
              </a:rPr>
              <a:t>关于鲁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027a45b5ef36099d37d3ca14"/>
          <p:cNvPicPr/>
          <p:nvPr/>
        </p:nvPicPr>
        <p:blipFill>
          <a:blip r:embed="rId1"/>
          <a:stretch/>
        </p:blipFill>
        <p:spPr>
          <a:xfrm>
            <a:off x="1000080" y="1714680"/>
            <a:ext cx="2016000" cy="322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59280" y="14842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迅，浙江绍兴人，原名周树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中国伟大的思想家和文学家，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的文化巨人之一，鲁迅堪称现代中国的“民族魂”，文学不过是他传播思想的武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主席评价他是伟大的无产阶级的文学家、思想家、革命家，是中国文化革命的主将。也被人民称为“民族魂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作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新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狂人日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朝花夕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孔乙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26920" y="5084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675a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1881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1936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图片 5" descr="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343560"/>
            <a:ext cx="261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28720" y="1917720"/>
            <a:ext cx="77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二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-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主要写了作者两次到鲁迅家中做客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1800" y="3286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三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-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了鲁迅先生怎样对待青年人的来信这件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46544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四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-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了鲁迅先生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文主要讲了几件事？从哪些段落可以看出来的？找出这件事的起止段落，小组讨论，组长发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19640" y="692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f2936"/>
                </a:solidFill>
                <a:latin typeface="Times New Roman"/>
                <a:ea typeface="华文行楷"/>
              </a:rPr>
              <a:t>回复来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青年人写信，写得太草率，鲁迅先生是深恶痛绝之的。”“但他还是展读着每封由不同角落里的青年的信，眼睛不济时，便戴起眼镜来看，常常看到夜里很深的时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328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强烈地要求着别人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严格地约束着自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却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宽容地对待别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现了鲁迅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更让我们感受到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于青年人的关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微不至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16040" y="795240"/>
            <a:ext cx="82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最后一自然段的鬼是指的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213372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里是作者借题发挥的一句话，这里的鬼是指那些品格低下，思想落后或者是立场错误的文化人。这些人由于生活在黑暗的旧社会，因循守旧、思想落后。而鲁迅代表了中国新文化运动的方向，他不但是伟大的作家，而且是一位坚强的战士，他利用文化为武器，与反动派作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65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1e28"/>
                </a:solidFill>
                <a:latin typeface="Calibri"/>
              </a:rPr>
              <a:t>鲁迅先生是一位</a:t>
            </a:r>
            <a:endParaRPr b="0" lang="en-US" sz="32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Cambria"/>
              </a:rPr>
              <a:t>的人</a:t>
            </a:r>
            <a:endParaRPr b="0" lang="en-US" sz="4000" spc="-1" strike="noStrike">
              <a:solidFill>
                <a:srgbClr val="771e28"/>
              </a:solidFill>
              <a:latin typeface="Cambri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008000" cy="746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3241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26920" y="248112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乐观爽朗、平易近人、豁达随和、幽默、博爱（宽厚仁爱）、倔强、关爱他人、待友全心全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1193760"/>
            <a:ext cx="61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鲁迅的形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470720" y="380880"/>
            <a:ext cx="54612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99360" y="4495680"/>
            <a:ext cx="610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07640" y="0"/>
            <a:ext cx="14094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019920"/>
            <a:ext cx="92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上海，和宋庆龄蔡元培等在一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09680" y="266688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6477120"/>
            <a:ext cx="434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51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全国木刻展览会上和青年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2666880"/>
            <a:ext cx="3124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660680" y="295200"/>
            <a:ext cx="611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北京师范大学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79280" y="18900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3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日鲁迅在上海逝世。广大群众争相奔赴万国殡仪馆瞻仰遗容，中共中央也来电吊唁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日，送葬群众多达数万人。鲁迅遗体覆盖着上海民众所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民族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旗子，安葬于虹桥万国公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5943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 迅 遗 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checker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8121600" cy="6669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244000" y="260280"/>
            <a:ext cx="9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5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，鲁迅墓迁到上海虹口公园，由毛泽东题署墓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33336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提起鲁迅，总会想起很多词语：深邃、沉重、严厉、倔强、勇毅、果敢……浓黑的一字须，根根向上的头发，吸着烟斗、面目严肃冷峻，这是鲁迅通常留给我们的印象，他似乎“对一切人都怀有忧虑和敌意”，但那却不是他的全部，他活着的时候，周围有许多文学青年愿意“亲近”他，萧红就是其中的一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1413000"/>
            <a:ext cx="34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后感悟：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通过对本篇课文的学习，你对鲁迅有没有新的认识？请谈谈你的体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81636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11280" y="981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自题小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灵台无计逃神矢，风雨如磐暗故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寄意寒星荃不察，我以我血荐轩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52293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无情未必真豪杰，怜子如何不丈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321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横眉冷对千夫指，俯首甘为孺子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69280" y="457200"/>
            <a:ext cx="546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3120" y="2781360"/>
            <a:ext cx="91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      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501336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 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30200" y="907920"/>
            <a:ext cx="9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     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6000" y="836640"/>
            <a:ext cx="1116000" cy="1520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796000" y="4797360"/>
            <a:ext cx="1155600" cy="1629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796000" y="2637000"/>
            <a:ext cx="1271520" cy="180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blinds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26920" y="1413000"/>
            <a:ext cx="7086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背会鲁迅先生写的《自嘲》和纪念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迅逝世三十周年臧克家写的《有的人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积累鲁迅先生的名言警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00720" y="4697280"/>
            <a:ext cx="1584360" cy="15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`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947520" y="771480"/>
            <a:ext cx="164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谢谢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flipH="1">
            <a:off x="2050920" y="2060640"/>
            <a:ext cx="2681280" cy="3408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95840" y="380880"/>
            <a:ext cx="152100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回  忆  鲁  迅  先   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3320" y="449568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萧    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663120"/>
            <a:ext cx="82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3831"/>
                </a:solidFill>
                <a:latin typeface="Calibri"/>
              </a:rPr>
              <a:t>关于萧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9"/>
          <p:cNvPicPr/>
          <p:nvPr/>
        </p:nvPicPr>
        <p:blipFill>
          <a:blip r:embed="rId1"/>
          <a:stretch/>
        </p:blipFill>
        <p:spPr>
          <a:xfrm>
            <a:off x="971640" y="1701720"/>
            <a:ext cx="1720800" cy="3056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857680" y="162864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Times New Roman"/>
              </a:rPr>
              <a:t>原名张乃莹，“萧红”是她发表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</a:rPr>
              <a:t>生死场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</a:rPr>
              <a:t>时使用的笔名。被誉为“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</a:rPr>
              <a:t>年代的文学洛神”的萧红，是民国四大才女中命运最为悲苦的女性，也是一位传奇性人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汉仪综艺体简"/>
                <a:ea typeface="汉仪综艺体简"/>
              </a:rPr>
              <a:t>萧红小说的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Times New Roman"/>
              </a:rPr>
              <a:t>以抒情笔调写自我主观感受；散文化的小说结构；重文化风俗和自然景物的描写，不重人物性格的刻画；无完整的故事情节，然而韵味深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26920" y="498312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e190e2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3365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</a:rPr>
              <a:t>1911—1942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图片 5" descr="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343560"/>
            <a:ext cx="261720" cy="314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857680" y="51436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宋体"/>
              </a:rPr>
              <a:t>主要作品：《生死场》、《马伯乐》、《呼兰河传》、《小城三月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992240" cy="2950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476280"/>
            <a:ext cx="60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91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出生于黑龙江省呼兰县一个地主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1341360"/>
            <a:ext cx="59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93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为了反抗父母包办的婚姻离家出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2205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93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认识萧军并与之结为志同道合的伴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0700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在鲁迅的帮助下和萧军一起来到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39337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抗战爆发后，上海沦陷，萧红到了香港，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94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病逝于香港九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0536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911—194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49417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主要作品：《生死场》、《马伯乐》、《呼兰河传》、《小城三月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2000" y="1052280"/>
            <a:ext cx="438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学习目标</a:t>
            </a:r>
            <a:endParaRPr b="0" lang="en-US" sz="36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体会伟人鲁迅日常生活中平易温和的一面。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学习本文善于从撷取生活琐事中去展现人物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771e28"/>
                </a:solidFill>
                <a:latin typeface="楷体_GB2312"/>
                <a:ea typeface="楷体_GB2312"/>
              </a:rPr>
              <a:t>性格的写作方法。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940360" y="4508640"/>
            <a:ext cx="1876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67120" y="981000"/>
            <a:ext cx="49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自学提示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朗读课文，标出读不准的字音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理解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你能读准下列加点字的音吗？</a:t>
            </a:r>
            <a:endParaRPr b="0" lang="en-US" sz="32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91736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咳嗽      不济     解剖     踌躇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遭殃      校对    崭然    草率 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深恶痛绝           噢的一声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Cambria"/>
              </a:rPr>
              <a:t>                                         </a:t>
            </a:r>
            <a:endParaRPr b="0" lang="en-US" sz="2800" spc="-1" strike="noStrike">
              <a:solidFill>
                <a:srgbClr val="771e28"/>
              </a:solidFill>
              <a:latin typeface="Cambria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1989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1989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19162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4720" y="1916280"/>
            <a:ext cx="2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299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299736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29242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19162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48428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155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óu  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14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ō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7440" y="249228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005360"/>
            <a:ext cx="2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407664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5020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93080" y="4508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08360" y="24922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ǎ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480000">
            <a:off x="1123560" y="34873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2565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全套课件免费下载：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24:55Z</dcterms:created>
  <dc:creator>绿色圃中小学教育网http://www.lspjy.com</dc:creator>
  <dc:description>绿色圃中小学教育网http://www.lspjy.com</dc:description>
  <cp:keywords/>
  <dc:language>en-US</dc:language>
  <cp:lastModifiedBy>微软用户</cp:lastModifiedBy>
  <dcterms:modified xsi:type="dcterms:W3CDTF">2013-10-24T12:42:22Z</dcterms:modified>
  <cp:revision>7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